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2566-DC32-4CE1-A34C-F7896CFA9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E6E4-A7F6-4B25-9BEB-3DC8F540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D230-52C1-4294-8B7B-392648E4E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8EB9-460C-417C-9615-C6815570E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72FE-5BD5-4451-827E-19CAD9F97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D158-59AD-45E9-A326-7E916ACB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70DA6-F946-48A4-A310-EC0C4463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8F71-B3DC-412F-97AD-E88101EC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D9D8-9053-4AB5-A7B9-D8852AF7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EE826-6098-4E8D-9D5E-38AD570C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11D7-78C1-4A5D-9500-9567EA6B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78E4-EAF9-47EE-A862-14872401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7A7A-6D71-48E2-9B03-F0F3B396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6C78-95DD-4769-966E-B2E9D0AB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FF58-4696-462B-901E-5B97A161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66507-244C-4B04-8323-4FA1D4931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73FC-593B-441F-BEEA-5F2545827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73ACF0-D647-4C95-B2AC-420DCFE34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BB4E9A-9F6A-4330-8CCF-F49098BB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C248D2-60EE-482B-9E1E-793CE84C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F6DA56-92E5-49EB-A9EE-C181FE9A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8CABA8-FA31-4DEC-82AB-84FB25FF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52F0-0C7E-4A03-82F2-94D1A6E6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39FF20-5BD7-4E62-B4CB-EFA338EB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F3FEC7-D9CD-4303-ACB2-EE11F818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17EAC3-7BC5-4E63-BBC8-8F68DF67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4D7D5C-80BB-422D-83C3-A125AC04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57D65B-99BA-464F-AE65-3CCFE41D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3D348D-B1B0-41BE-976E-8ABE59360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2F0CD0-6B80-4319-B870-6F629CC03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52E0F7-CC30-457A-8595-9C98407D2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6C3888-E0B4-4D5E-95A2-8F5D0811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1B2AA8-D3C4-4945-96C3-CA52DB38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8C3B-B081-4767-ADDE-3A0015FC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B21378-DB1C-478A-8570-9EDA1351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55A8FE-B0BD-4540-93F9-E9564B13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7C0C6C-1A32-43B1-87BA-83075AA3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32BE72-2805-4E63-908E-F54BD7BB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7331D8-AE33-4F2D-A799-31105256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6337F2-5C21-44E7-920F-D1DB75DD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CD006C-F4E2-487E-ABDA-8B106898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8E48E1-D75F-4DC1-90A8-18DDB9391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DF0968-EA4A-4C9E-92FC-5A7ECF7D6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C87425-5856-49B1-81CE-3905E820E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AB92-1B69-470F-BD1D-87FEA2D8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D113C5-4C53-4374-A89A-34165F68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5741E5-5FE4-41C7-A28D-506782F0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3F6C83-5B85-4693-A277-40C50EED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17F355-ECBB-4FA6-82B6-4D3D5D13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63F649-B4AE-47A6-95C4-EBA7BB85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B30457-E5D9-436F-B182-0947C9F9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4521BD-3B1B-485F-A98F-0F53B42D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9CF451-B841-40E0-A3B3-314B5841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9A89F7-06CB-4120-A256-95BA1FB5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F16A6B-BE59-4CBB-8724-2BD0C636E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2B2C-67E3-4D6C-B06C-A27B016F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E27A24-1561-461D-8F32-882C2DA8F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C236A-EDA8-4D55-8C5A-B0D46A3E5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8E20D-B345-4645-B0B4-C4FF5FDA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8C26D-0F52-413A-8FF4-08522B64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3CACF-B855-43CF-92A6-ABF31BF3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C2B28-9BA1-4475-B1C4-668801AC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76377-D9DE-4A32-B2DF-AF6A3D21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02EDC-DD74-4465-8367-D433FB9A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98CDA-67C4-4626-B128-908B2C64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DF6F5-CBF7-4BAB-8EB6-C89E4D89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63D9-B1A1-4D40-8AA5-77ED2317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6894B-43C1-4BB1-A2FD-0F8CF496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23E04-EF04-4C83-AE8B-C4FD72D88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C4E8D-F32F-404F-A4C7-0CDCF7804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3387BE-8D3E-4D74-95AC-C9FC7E8ED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30B57C-408C-446B-8878-41D5C552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C56AF2-EBBF-4BB8-82C5-CBBFA371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6452FA-8A96-40A9-A491-838E81A4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C88961-966C-4D70-913A-58427F6E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4B073B-7797-4C0D-83AC-5DD5862C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F5277D-3963-4016-A505-40354E08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8CE8-7195-407C-9B10-D04B7562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449601-38C2-4FC5-A3B3-4DF3F25F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CC8B63-F684-4A1C-AA71-D52B817F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4E5DF5-F187-4570-99CF-6982A35B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CA555C-95E2-402D-9439-6E8340F96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F135A7-784D-425E-B11E-821B8DB0B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0B7E8-86DF-429A-94AC-268CF6D7A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67042-D1D6-462B-9C52-50EED02F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93B11-2DAE-4151-92CB-E21A4C27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484EB-3160-4339-B2FE-95F1E80B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75A96-9DC8-42D7-A60C-639EE098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9096-E4B4-4492-89BD-8178222A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46345-BF63-429A-93D5-5E907C89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401E5-CE42-46FD-88E6-10ABC02E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34461-80CE-40D6-BBE9-D6C90619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31E2D-AF4C-4C21-9162-50C752AA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EA4EF-1BD5-4E58-AD9E-020F7647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57DC5-202D-460A-BE08-92C5F33B0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49003-2508-4969-ACF3-303F311BA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19CC-975E-42CB-9E1B-EAF21D0CF1E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4F6B-02FF-4B86-ABB4-26E904CD11F0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39BE-F9AD-48BC-96F5-233EE25ABB8E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6C82-E218-49D7-912D-8E4B49425F9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7B57-B07E-4D1C-8831-82272643C2B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7315-D7F7-4A6D-A0BA-C820F496F8BC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8216-9C54-40EB-BB16-BB4FD29D5BB0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910A-084D-4A0B-B470-C2A27382290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bddc3"/>
                </a:solidFill>
                <a:latin typeface="BernhardModern"/>
                <a:ea typeface="Arabic Typesetting"/>
              </a:rPr>
              <a:t>MEG 101</a:t>
            </a:r>
            <a:endParaRPr b="0" lang="en-US" sz="6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An introduction to Meaghan Kountze!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2" name="Picture 3" descr="103_2542.JPG"/>
          <p:cNvPicPr/>
          <p:nvPr/>
        </p:nvPicPr>
        <p:blipFill>
          <a:blip r:embed="rId1"/>
          <a:stretch/>
        </p:blipFill>
        <p:spPr>
          <a:xfrm>
            <a:off x="96840" y="36360"/>
            <a:ext cx="3268800" cy="47548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Me.jpg"/>
          <p:cNvPicPr/>
          <p:nvPr/>
        </p:nvPicPr>
        <p:blipFill>
          <a:blip r:embed="rId2"/>
          <a:stretch/>
        </p:blipFill>
        <p:spPr>
          <a:xfrm>
            <a:off x="6102360" y="-19080"/>
            <a:ext cx="2876400" cy="48830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Me again.jpg"/>
          <p:cNvPicPr/>
          <p:nvPr/>
        </p:nvPicPr>
        <p:blipFill>
          <a:blip r:embed="rId3"/>
          <a:stretch/>
        </p:blipFill>
        <p:spPr>
          <a:xfrm>
            <a:off x="2901960" y="622440"/>
            <a:ext cx="3602160" cy="36147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tents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6" name="TextBox 3"/>
          <p:cNvSpPr/>
          <p:nvPr/>
        </p:nvSpPr>
        <p:spPr>
          <a:xfrm>
            <a:off x="609480" y="213372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members of my immediate famil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ileston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y goals for the future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zoom dir="in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1"/>
          <p:cNvSpPr/>
          <p:nvPr/>
        </p:nvSpPr>
        <p:spPr>
          <a:xfrm>
            <a:off x="1143000" y="457200"/>
            <a:ext cx="6629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a17c36"/>
                </a:solidFill>
                <a:latin typeface="Tw Cen MT"/>
              </a:rPr>
              <a:t>My Family</a:t>
            </a:r>
            <a:endParaRPr b="0" lang="en-US" sz="6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8" name="Picture 2" descr="Mom.jpg"/>
          <p:cNvPicPr/>
          <p:nvPr/>
        </p:nvPicPr>
        <p:blipFill>
          <a:blip r:embed="rId1"/>
          <a:stretch/>
        </p:blipFill>
        <p:spPr>
          <a:xfrm>
            <a:off x="609480" y="1523880"/>
            <a:ext cx="1981440" cy="2641680"/>
          </a:xfrm>
          <a:prstGeom prst="rect">
            <a:avLst/>
          </a:prstGeom>
          <a:ln w="0">
            <a:noFill/>
          </a:ln>
        </p:spPr>
      </p:pic>
      <p:sp>
        <p:nvSpPr>
          <p:cNvPr id="359" name="TextBox 3"/>
          <p:cNvSpPr/>
          <p:nvPr/>
        </p:nvSpPr>
        <p:spPr>
          <a:xfrm>
            <a:off x="533520" y="4419720"/>
            <a:ext cx="19047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y mother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A retired police detective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0" name="Picture 4" descr="Manny.jpg"/>
          <p:cNvPicPr/>
          <p:nvPr/>
        </p:nvPicPr>
        <p:blipFill>
          <a:blip r:embed="rId2"/>
          <a:stretch/>
        </p:blipFill>
        <p:spPr>
          <a:xfrm>
            <a:off x="4191120" y="1676520"/>
            <a:ext cx="1981080" cy="33559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5"/>
          <p:cNvSpPr/>
          <p:nvPr/>
        </p:nvSpPr>
        <p:spPr>
          <a:xfrm>
            <a:off x="6553080" y="1828800"/>
            <a:ext cx="19814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y husband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My chosen life partner,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TextBox 6"/>
          <p:cNvSpPr/>
          <p:nvPr/>
        </p:nvSpPr>
        <p:spPr>
          <a:xfrm>
            <a:off x="6324480" y="35812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w Cen MT"/>
              </a:rPr>
              <a:t>…</a:t>
            </a:r>
            <a:r>
              <a:rPr b="1" lang="en-US" sz="1800" spc="-1" strike="noStrike">
                <a:solidFill>
                  <a:srgbClr val="c00000"/>
                </a:solidFill>
                <a:latin typeface="Tw Cen MT"/>
              </a:rPr>
              <a:t>..channeling Clark Kent!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TextBox 7"/>
          <p:cNvSpPr/>
          <p:nvPr/>
        </p:nvSpPr>
        <p:spPr>
          <a:xfrm>
            <a:off x="533520" y="54864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Without her I would be nothing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TextBox 8"/>
          <p:cNvSpPr/>
          <p:nvPr/>
        </p:nvSpPr>
        <p:spPr>
          <a:xfrm>
            <a:off x="685800" y="5791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..(</a:t>
            </a:r>
            <a:r>
              <a:rPr b="1" lang="en-US" sz="1800" spc="-1" strike="noStrike">
                <a:solidFill>
                  <a:srgbClr val="c00000"/>
                </a:solidFill>
                <a:latin typeface="Tw Cen MT"/>
              </a:rPr>
              <a:t>literally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!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TextBox 9"/>
          <p:cNvSpPr/>
          <p:nvPr/>
        </p:nvSpPr>
        <p:spPr>
          <a:xfrm>
            <a:off x="6553080" y="30481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for better or worse!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y Brother and Siste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ell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5028840" y="160020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amps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9" name="Picture 4" descr="nikon feb 26 pt 2 017.JPG"/>
          <p:cNvPicPr/>
          <p:nvPr/>
        </p:nvPicPr>
        <p:blipFill>
          <a:blip r:embed="rId1"/>
          <a:stretch/>
        </p:blipFill>
        <p:spPr>
          <a:xfrm>
            <a:off x="380880" y="2286000"/>
            <a:ext cx="2819520" cy="42116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5" descr="Sam.jpg"/>
          <p:cNvPicPr/>
          <p:nvPr/>
        </p:nvPicPr>
        <p:blipFill>
          <a:blip r:embed="rId2"/>
          <a:stretch/>
        </p:blipFill>
        <p:spPr>
          <a:xfrm>
            <a:off x="4952880" y="2362320"/>
            <a:ext cx="355788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6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6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6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6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6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4419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y Two Daughters,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oll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257440" y="160020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bbe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TextBox 4"/>
          <p:cNvSpPr/>
          <p:nvPr/>
        </p:nvSpPr>
        <p:spPr>
          <a:xfrm>
            <a:off x="4419720" y="380880"/>
            <a:ext cx="44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oth 8 months old!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5" name="Picture 5" descr="Molly.jpg"/>
          <p:cNvPicPr/>
          <p:nvPr/>
        </p:nvPicPr>
        <p:blipFill>
          <a:blip r:embed="rId1"/>
          <a:stretch/>
        </p:blipFill>
        <p:spPr>
          <a:xfrm>
            <a:off x="304920" y="2590920"/>
            <a:ext cx="4344840" cy="29098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7" descr="Abbey.jpg"/>
          <p:cNvPicPr/>
          <p:nvPr/>
        </p:nvPicPr>
        <p:blipFill>
          <a:blip r:embed="rId2"/>
          <a:stretch/>
        </p:blipFill>
        <p:spPr>
          <a:xfrm>
            <a:off x="5029200" y="2286000"/>
            <a:ext cx="3801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6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6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6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6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6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6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And joining us around June 5, 2012….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8" name="Content Placeholder 4" descr="ultrasound image.jpg"/>
          <p:cNvPicPr/>
          <p:nvPr/>
        </p:nvPicPr>
        <p:blipFill>
          <a:blip r:embed="rId1"/>
          <a:stretch/>
        </p:blipFill>
        <p:spPr>
          <a:xfrm>
            <a:off x="1746360" y="1600200"/>
            <a:ext cx="5187960" cy="3962520"/>
          </a:xfrm>
          <a:prstGeom prst="rect">
            <a:avLst/>
          </a:prstGeom>
          <a:ln w="0">
            <a:noFill/>
          </a:ln>
        </p:spPr>
      </p:pic>
      <p:sp>
        <p:nvSpPr>
          <p:cNvPr id="379" name="TextBox 5"/>
          <p:cNvSpPr/>
          <p:nvPr/>
        </p:nvSpPr>
        <p:spPr>
          <a:xfrm>
            <a:off x="0" y="563868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answer to my husbands prayers…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TextBox 6"/>
          <p:cNvSpPr/>
          <p:nvPr/>
        </p:nvSpPr>
        <p:spPr>
          <a:xfrm>
            <a:off x="1905120" y="617220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act: Our household has a female to male ratio of 3:1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75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380880" y="2742840"/>
            <a:ext cx="8113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March 1, 2005 ~ the day I met my husban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December 31, 2007 ~ our wedding anniversar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February 2010 ~ the month we paid off our car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"/>
              </a:rPr>
              <a:t>Memorable Dat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0" y="274284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June 5, 2012 ~ Approximate birth date of my s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July-July 2012 ~ My husband and I should be closing on our first hom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August 8, 2012 ~ Completion of Bachelor’s Degre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September 2012 ~ Anticipated start of my Master’s Degree progra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"/>
              </a:rPr>
              <a:t>Dates to look forward to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00:11:04Z</dcterms:created>
  <dc:creator>Meg and Manny</dc:creator>
  <dc:description/>
  <dc:language>en-US</dc:language>
  <cp:lastModifiedBy>Meg and Manny</cp:lastModifiedBy>
  <dcterms:modified xsi:type="dcterms:W3CDTF">2012-03-25T05:03:41Z</dcterms:modified>
  <cp:revision>69</cp:revision>
  <dc:subject/>
  <dc:title>Slide 1</dc:title>
</cp:coreProperties>
</file>